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68A0-E3CE-480C-AF65-01C2F214D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EB0-B2DC-472B-A7E4-E4E80C62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1B4-1621-4C34-8B28-6A2B385D4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42FB-0430-4A9F-B0D6-5D2807A3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A65-AACA-4FF2-B7EE-68471DD3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88C-B34C-4717-937D-4736D613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D0B-F3D4-41A8-B105-F1AB31F6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2DF3-4F38-4698-AEBD-59F06A43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D45-4DA7-4885-B9DC-3BABA7244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F1B-55CD-47F8-8748-4DA05DAF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985E-A79A-4B06-9269-E51D4417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8761-9089-4384-926C-E3D8717B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5211-56CB-4570-82E2-F2C0BA579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طر الله الإنسان على مح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زين والجما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2063880"/>
            <a:ext cx="8665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دلالة ع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يكون بعد نزول القرآن من اختراعات مما يركبها الخلق في البر والبحر والجو ويستعملونها في مصالح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952800" y="2079720"/>
            <a:ext cx="3355920" cy="52524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2898720"/>
            <a:ext cx="8665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الله تعالى من منافع الخيل والبغال والحمير والركوب والزينة ولم يذكر الأك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بغال والحمير محرم أكلها والخيل وإن جاز أكلها إلا أنها لا تستعمل في الغالب للأك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0920" y="3716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جواز أكل لحم الخيل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403280" y="3692520"/>
            <a:ext cx="4508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47680" y="1095480"/>
            <a:ext cx="8645400" cy="550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3116160" y="2492280"/>
            <a:ext cx="1460520" cy="71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1619280" y="4005360"/>
            <a:ext cx="33019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6"/>
          <a:stretch/>
        </p:blipFill>
        <p:spPr>
          <a:xfrm>
            <a:off x="247680" y="5450040"/>
            <a:ext cx="46735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79280" y="249408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خصومة في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014480"/>
            <a:ext cx="8729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184464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إنسان أنعم الله عليه بالنعم ولكنه لم يشكرها وكفر بموجدها وهو الله سبحانه و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022480" y="981000"/>
            <a:ext cx="6908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291960" y="1438200"/>
            <a:ext cx="85708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74404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1828800" y="2060640"/>
            <a:ext cx="699120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5"/>
          <a:stretch/>
        </p:blipFill>
        <p:spPr>
          <a:xfrm>
            <a:off x="1528920" y="3213000"/>
            <a:ext cx="741996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1871640" y="4568760"/>
            <a:ext cx="7077240" cy="609840"/>
          </a:xfrm>
          <a:prstGeom prst="rect">
            <a:avLst/>
          </a:prstGeom>
          <a:ln w="0">
            <a:noFill/>
          </a:ln>
        </p:spPr>
      </p:pic>
      <p:sp>
        <p:nvSpPr>
          <p:cNvPr id="109" name="عنوان 1"/>
          <p:cNvSpPr/>
          <p:nvPr/>
        </p:nvSpPr>
        <p:spPr>
          <a:xfrm>
            <a:off x="250920" y="357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بغال والحمير محرم أكلها والخيل وإن جاز أكلها إلا أنها لا تستعمل في الغالب للأك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وان 1"/>
          <p:cNvSpPr/>
          <p:nvPr/>
        </p:nvSpPr>
        <p:spPr>
          <a:xfrm>
            <a:off x="324000" y="2637000"/>
            <a:ext cx="856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قق وقوعه أي قر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62080" y="1484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م يؤمنوا به ولم يصدقو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117"/>
          <a:stretch/>
        </p:blipFill>
        <p:spPr>
          <a:xfrm>
            <a:off x="324000" y="1268280"/>
            <a:ext cx="85341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46320" y="4581360"/>
            <a:ext cx="31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224172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مرار على العبادة حتى آخر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47680" y="981000"/>
            <a:ext cx="876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42920"/>
            <a:ext cx="87678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539640" y="1824120"/>
            <a:ext cx="8431200" cy="218124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6012000" y="3284640"/>
            <a:ext cx="36036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072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29242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ا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33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بري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395280" y="386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وح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395280" y="43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بل والبقر والغن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4762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تستدفئون ب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رجونها إلى المرعى بالغد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حمالك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95280" y="62755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د النف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قت قيام الساع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ر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ه الله تعالى وتعاظمه ع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ركاء والأند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م يترك عباده هملاً ب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رسل إليهم رسل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زل عليهم كتب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بينوا لهم طريق السعادة وطريق الشق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ظيفة الرس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نذار عن الشرك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دعوة إلى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م يخلق الله السموات والأرض عبثاً وإنما خلق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 ودلالات عظي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467208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نبيه على ضعف الإنسان وأنه خلق م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طفة مهينة ضعيفة ومع ذلك يجادل ويخاصم ربه تعالى ويحارب رس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37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حمة الله تعالى بعباده حيث سخر ل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قوام حياتهم ودوام عيش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87700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منافع الأنعام وفوائد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8-02T13:09:56Z</dcterms:modified>
  <cp:revision>1890</cp:revision>
  <dc:subject/>
  <dc:title>عرض تقديمي في PowerPoint</dc:title>
</cp:coreProperties>
</file>